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D957-A520-4F4D-A1AC-3C1241725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either slide 2 or 3 and proceed to slide 4 if you wish to discuss some misconceptions that are not brought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3963-CD24-49CE-9FC0-911656034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used these events? Are they related in any wa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3A4F-040E-426E-B37E-C50166E77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‘prompt’ – what ideas about global warming do these images conj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E137-41BF-4646-B5EF-8FEC92908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nteresting list can be built up over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7733-3764-45D7-B0D6-995E8B770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A96F-4580-4FC7-A31E-D2483839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05C3-B7CF-4F1D-960E-FB72BB5D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3DE-BA63-4EB3-BFAA-9F2E2FCC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20C8-39CC-41B5-950E-86C8B0C8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D81-1B25-40EC-8C77-A7F82D90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6ABA-C69B-454E-AD4A-D050885B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0D0-FA9C-45C9-ACA0-CCF24E56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B93-4091-439D-9B8A-76018B92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CB5-AE14-4164-A5D2-30724B9E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2DE5-37C1-4AF7-A5EE-3C84FD94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EB96-EBB0-49DC-9EAE-21D50008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C80C-87FB-4099-BB85-EF6E732F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E7D2-F4D0-4216-A642-770F436CF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AT COMES TO MIN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p your thoughts in response to the image(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C:\Documents and Settings\S7009487H\Local Settings\Temporary Internet Files\Content.IE5\5NGWHPXJ\MC900437211[1].jpg"/>
          <p:cNvPicPr/>
          <p:nvPr/>
        </p:nvPicPr>
        <p:blipFill>
          <a:blip r:embed="rId1"/>
          <a:stretch/>
        </p:blipFill>
        <p:spPr>
          <a:xfrm>
            <a:off x="2438280" y="609480"/>
            <a:ext cx="403884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9" descr="Photo: Lines of wildfire snaking through foothills"/>
          <p:cNvPicPr/>
          <p:nvPr/>
        </p:nvPicPr>
        <p:blipFill>
          <a:blip r:embed="rId1"/>
          <a:srcRect l="0" t="0" r="-9329" b="0"/>
          <a:stretch/>
        </p:blipFill>
        <p:spPr>
          <a:xfrm>
            <a:off x="0" y="3809880"/>
            <a:ext cx="685800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4920" y="0"/>
            <a:ext cx="2327400" cy="365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7 most terrifying global warming image"/>
          <p:cNvPicPr/>
          <p:nvPr/>
        </p:nvPicPr>
        <p:blipFill>
          <a:blip r:embed="rId3"/>
          <a:stretch/>
        </p:blipFill>
        <p:spPr>
          <a:xfrm>
            <a:off x="6553080" y="2895480"/>
            <a:ext cx="2590920" cy="209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polar bear global warming photo"/>
          <p:cNvPicPr/>
          <p:nvPr/>
        </p:nvPicPr>
        <p:blipFill>
          <a:blip r:embed="rId4"/>
          <a:stretch/>
        </p:blipFill>
        <p:spPr>
          <a:xfrm>
            <a:off x="6505560" y="0"/>
            <a:ext cx="2638440" cy="2955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climate change hurricanes photo"/>
          <p:cNvPicPr/>
          <p:nvPr/>
        </p:nvPicPr>
        <p:blipFill>
          <a:blip r:embed="rId5"/>
          <a:stretch/>
        </p:blipFill>
        <p:spPr>
          <a:xfrm>
            <a:off x="2362320" y="0"/>
            <a:ext cx="417672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dust cloud climate change photo"/>
          <p:cNvPicPr/>
          <p:nvPr/>
        </p:nvPicPr>
        <p:blipFill>
          <a:blip r:embed="rId6"/>
          <a:stretch/>
        </p:blipFill>
        <p:spPr>
          <a:xfrm>
            <a:off x="2362320" y="2362320"/>
            <a:ext cx="4190760" cy="2793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Brazilians relax under Manaus&amp;#x27;s Brito Bridge"/>
          <p:cNvPicPr/>
          <p:nvPr/>
        </p:nvPicPr>
        <p:blipFill>
          <a:blip r:embed="rId7"/>
          <a:stretch/>
        </p:blipFill>
        <p:spPr>
          <a:xfrm>
            <a:off x="0" y="3657600"/>
            <a:ext cx="236232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Photo: Elephant drought victim"/>
          <p:cNvPicPr/>
          <p:nvPr/>
        </p:nvPicPr>
        <p:blipFill>
          <a:blip r:embed="rId8"/>
          <a:stretch/>
        </p:blipFill>
        <p:spPr>
          <a:xfrm>
            <a:off x="6248520" y="4927680"/>
            <a:ext cx="2895480" cy="1930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3"/>
          <p:cNvSpPr/>
          <p:nvPr/>
        </p:nvSpPr>
        <p:spPr>
          <a:xfrm>
            <a:off x="2362320" y="2370240"/>
            <a:ext cx="41907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caused these even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 they related in any w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C:\Documents and Settings\S7009487H\Local Settings\Temporary Internet Files\Content.IE5\E3ZJA7R1\MC900437253[1].jpg"/>
          <p:cNvPicPr/>
          <p:nvPr/>
        </p:nvPicPr>
        <p:blipFill>
          <a:blip r:embed="rId1"/>
          <a:stretch/>
        </p:blipFill>
        <p:spPr>
          <a:xfrm>
            <a:off x="1368360" y="228600"/>
            <a:ext cx="6407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children and adults think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solar input through the ozone hole increases global temperatu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nhouse gases retain heat by preventing convection and trapping warm air in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e in the ozone layer will cause glaciers in the poles to me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ar ice-caps melting result in the rise in sea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e these true or n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3:33:34Z</dcterms:created>
  <dc:creator>Axioo</dc:creator>
  <dc:description/>
  <dc:language>en-US</dc:language>
  <cp:lastModifiedBy>Goh Tiang Ai</cp:lastModifiedBy>
  <dcterms:modified xsi:type="dcterms:W3CDTF">2014-05-26T02:32:26Z</dcterms:modified>
  <cp:revision>12</cp:revision>
  <dc:subject/>
  <dc:title>Slide 1</dc:title>
</cp:coreProperties>
</file>